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E3D3-E3FA-4F23-BB86-A1AD3D0005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9EA5-8C88-4CA0-8020-4A2FB45C10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08C-61C5-4C53-8C61-DEFDF9ED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19A-7F51-4469-B642-A3CEBCFD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9D5-4672-459A-8480-E8EB9078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6C0-F23B-471D-8536-A4138403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A2D-3E92-4D27-8358-42329D0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70C-52B5-4B01-90E5-805CEE04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19B-EC38-49D6-AF9E-D6AFC76F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F1E-D8D5-4037-9D4B-BAFD65B8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1CC-2F58-45AF-9275-5F6B4D95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1C8-AB59-4D4E-900A-AB09CB42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561-9580-414D-8BE1-FB6635D4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016-09E3-446E-BC8A-15D9F448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BA72-B542-4913-8882-C3AAAC3F9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102240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2" action="ppaction://hlinksldjump"/>
          </p:cNvPr>
          <p:cNvSpPr/>
          <p:nvPr/>
        </p:nvSpPr>
        <p:spPr>
          <a:xfrm>
            <a:off x="281952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rId3" action="ppaction://hlinksldjump"/>
          </p:cNvPr>
          <p:cNvSpPr/>
          <p:nvPr/>
        </p:nvSpPr>
        <p:spPr>
          <a:xfrm>
            <a:off x="464832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rId4" action="ppaction://hlinksldjump"/>
          </p:cNvPr>
          <p:cNvSpPr/>
          <p:nvPr/>
        </p:nvSpPr>
        <p:spPr>
          <a:xfrm>
            <a:off x="659124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1022400" y="4114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>
            <a:hlinkClick r:id="rId6" action="ppaction://hlinksldjump"/>
          </p:cNvPr>
          <p:cNvSpPr/>
          <p:nvPr/>
        </p:nvSpPr>
        <p:spPr>
          <a:xfrm>
            <a:off x="2819520" y="4114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. 9 Quick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>
            <a:hlinkClick r:id="rId7" action="ppaction://hlinksldjump"/>
          </p:cNvPr>
          <p:cNvSpPr/>
          <p:nvPr/>
        </p:nvSpPr>
        <p:spPr>
          <a:xfrm>
            <a:off x="4648320" y="4114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>
            <a:hlinkClick r:id="rId8" action="ppaction://hlinksldjump"/>
          </p:cNvPr>
          <p:cNvSpPr/>
          <p:nvPr/>
        </p:nvSpPr>
        <p:spPr>
          <a:xfrm>
            <a:off x="6591240" y="4114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>
            <a:hlinkClick r:id="rId9" action="ppaction://hlinksldjump"/>
          </p:cNvPr>
          <p:cNvSpPr/>
          <p:nvPr/>
        </p:nvSpPr>
        <p:spPr>
          <a:xfrm>
            <a:off x="3505320" y="5486400"/>
            <a:ext cx="1447560" cy="838080"/>
          </a:xfrm>
          <a:custGeom>
            <a:avLst/>
            <a:gdLst>
              <a:gd name="textAreaLeft" fmla="*/ 54000 w 1447560"/>
              <a:gd name="textAreaRight" fmla="*/ 1393560 w 1447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5 products of cellular re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ction Button: Information 3"/>
          <p:cNvSpPr/>
          <p:nvPr/>
        </p:nvSpPr>
        <p:spPr>
          <a:xfrm>
            <a:off x="5486400" y="52052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79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7">
                <a:moveTo>
                  <a:pt x="10800" y="417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7">
                <a:moveTo>
                  <a:pt x="8224" y="8227"/>
                </a:moveTo>
                <a:lnTo>
                  <a:pt x="12088" y="8227"/>
                </a:lnTo>
                <a:lnTo>
                  <a:pt x="12088" y="15225"/>
                </a:lnTo>
                <a:lnTo>
                  <a:pt x="13376" y="15225"/>
                </a:lnTo>
                <a:lnTo>
                  <a:pt x="13376" y="16148"/>
                </a:lnTo>
                <a:lnTo>
                  <a:pt x="8224" y="16148"/>
                </a:lnTo>
                <a:lnTo>
                  <a:pt x="8224" y="15225"/>
                </a:lnTo>
                <a:lnTo>
                  <a:pt x="9512" y="15225"/>
                </a:lnTo>
                <a:lnTo>
                  <a:pt x="9512" y="9133"/>
                </a:lnTo>
                <a:lnTo>
                  <a:pt x="8224" y="91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, ATP, NA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 to Acetyl-CoA &amp; 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l Inner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mping H+ into the mitochondrial intermembrane space (generating proton-motive for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,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, NAD+, FA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ction Button: Back or Previous 3">
            <a:hlinkClick r:id="" action="ppaction://hlinkshowjump?jump=firstslide"/>
          </p:cNvPr>
          <p:cNvSpPr/>
          <p:nvPr/>
        </p:nvSpPr>
        <p:spPr>
          <a:xfrm>
            <a:off x="3809880" y="45720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NADH becomes NAD+, has it been oxidized or reduce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firstslide"/>
          </p:cNvPr>
          <p:cNvSpPr/>
          <p:nvPr/>
        </p:nvSpPr>
        <p:spPr>
          <a:xfrm>
            <a:off x="2438280" y="5334120"/>
            <a:ext cx="1295640" cy="76176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31" h="21600">
                <a:moveTo>
                  <a:pt x="0" y="0"/>
                </a:moveTo>
                <a:lnTo>
                  <a:pt x="36731" y="0"/>
                </a:lnTo>
                <a:lnTo>
                  <a:pt x="36731" y="21600"/>
                </a:lnTo>
                <a:lnTo>
                  <a:pt x="0" y="21600"/>
                </a:lnTo>
                <a:close/>
              </a:path>
              <a:path fill="lightenLess" w="36731" h="21600">
                <a:moveTo>
                  <a:pt x="0" y="0"/>
                </a:moveTo>
                <a:lnTo>
                  <a:pt x="36731" y="0"/>
                </a:lnTo>
                <a:lnTo>
                  <a:pt x="35331" y="1400"/>
                </a:lnTo>
                <a:lnTo>
                  <a:pt x="1400" y="1400"/>
                </a:lnTo>
                <a:close/>
              </a:path>
              <a:path fill="darken" w="36731" h="21600">
                <a:moveTo>
                  <a:pt x="36731" y="0"/>
                </a:moveTo>
                <a:lnTo>
                  <a:pt x="36731" y="21600"/>
                </a:lnTo>
                <a:lnTo>
                  <a:pt x="35331" y="20200"/>
                </a:lnTo>
                <a:lnTo>
                  <a:pt x="35331" y="1400"/>
                </a:lnTo>
                <a:close/>
              </a:path>
              <a:path fill="darkenLess" w="36731" h="21600">
                <a:moveTo>
                  <a:pt x="36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31" y="20200"/>
                </a:lnTo>
                <a:close/>
              </a:path>
              <a:path fill="lighten" w="36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31" h="21600">
                <a:moveTo>
                  <a:pt x="14867" y="10800"/>
                </a:moveTo>
                <a:lnTo>
                  <a:pt x="25372" y="3794"/>
                </a:lnTo>
                <a:lnTo>
                  <a:pt x="25372" y="17806"/>
                </a:lnTo>
                <a:close/>
              </a:path>
              <a:path fill="darken" w="36731" h="21600">
                <a:moveTo>
                  <a:pt x="11359" y="3794"/>
                </a:moveTo>
                <a:lnTo>
                  <a:pt x="13022" y="3794"/>
                </a:lnTo>
                <a:lnTo>
                  <a:pt x="13022" y="17806"/>
                </a:lnTo>
                <a:lnTo>
                  <a:pt x="113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3 products of Glyco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hase of Cellular Respiration consumes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2 reactions of cellular respiration produce carbon diox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pecific location would you find ATP Synth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ction Button: Information 3">
            <a:hlinkClick r:id="rId1" action="ppaction://hlinksldjump"/>
          </p:cNvPr>
          <p:cNvSpPr/>
          <p:nvPr/>
        </p:nvSpPr>
        <p:spPr>
          <a:xfrm>
            <a:off x="5486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released from the electron transport chain is used for what specific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ction Button: Information 3">
            <a:hlinkClick r:id="rId1" action="ppaction://hlinksldjump"/>
          </p:cNvPr>
          <p:cNvSpPr/>
          <p:nvPr/>
        </p:nvSpPr>
        <p:spPr>
          <a:xfrm>
            <a:off x="5486400" y="52052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79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7">
                <a:moveTo>
                  <a:pt x="10800" y="417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7">
                <a:moveTo>
                  <a:pt x="8224" y="8227"/>
                </a:moveTo>
                <a:lnTo>
                  <a:pt x="12088" y="8227"/>
                </a:lnTo>
                <a:lnTo>
                  <a:pt x="12088" y="15225"/>
                </a:lnTo>
                <a:lnTo>
                  <a:pt x="13376" y="15225"/>
                </a:lnTo>
                <a:lnTo>
                  <a:pt x="13376" y="16148"/>
                </a:lnTo>
                <a:lnTo>
                  <a:pt x="8224" y="16148"/>
                </a:lnTo>
                <a:lnTo>
                  <a:pt x="8224" y="15225"/>
                </a:lnTo>
                <a:lnTo>
                  <a:pt x="9512" y="15225"/>
                </a:lnTo>
                <a:lnTo>
                  <a:pt x="9512" y="9133"/>
                </a:lnTo>
                <a:lnTo>
                  <a:pt x="8224" y="91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oxygen is not present, this process will proceed after glyco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ction Button: Information 3">
            <a:hlinkClick r:id="rId1" action="ppaction://hlinksldjump"/>
          </p:cNvPr>
          <p:cNvSpPr/>
          <p:nvPr/>
        </p:nvSpPr>
        <p:spPr>
          <a:xfrm>
            <a:off x="5486400" y="52052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79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7">
                <a:moveTo>
                  <a:pt x="10800" y="417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7">
                <a:moveTo>
                  <a:pt x="8224" y="8227"/>
                </a:moveTo>
                <a:lnTo>
                  <a:pt x="12088" y="8227"/>
                </a:lnTo>
                <a:lnTo>
                  <a:pt x="12088" y="15225"/>
                </a:lnTo>
                <a:lnTo>
                  <a:pt x="13376" y="15225"/>
                </a:lnTo>
                <a:lnTo>
                  <a:pt x="13376" y="16148"/>
                </a:lnTo>
                <a:lnTo>
                  <a:pt x="8224" y="16148"/>
                </a:lnTo>
                <a:lnTo>
                  <a:pt x="8224" y="15225"/>
                </a:lnTo>
                <a:lnTo>
                  <a:pt x="9512" y="15225"/>
                </a:lnTo>
                <a:lnTo>
                  <a:pt x="9512" y="9133"/>
                </a:lnTo>
                <a:lnTo>
                  <a:pt x="8224" y="91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location where Acetyl Co-A would accumu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>
            <a:hlinkClick r:id="" action="ppaction://hlinkshowjump?jump=firstslide"/>
          </p:cNvPr>
          <p:cNvSpPr/>
          <p:nvPr/>
        </p:nvSpPr>
        <p:spPr>
          <a:xfrm>
            <a:off x="3352680" y="541008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4858" y="10800"/>
                </a:moveTo>
                <a:lnTo>
                  <a:pt x="25363" y="3794"/>
                </a:lnTo>
                <a:lnTo>
                  <a:pt x="25363" y="17806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13013" y="3794"/>
                </a:lnTo>
                <a:lnTo>
                  <a:pt x="13013" y="17806"/>
                </a:lnTo>
                <a:lnTo>
                  <a:pt x="11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ction Button: Information 3"/>
          <p:cNvSpPr/>
          <p:nvPr/>
        </p:nvSpPr>
        <p:spPr>
          <a:xfrm>
            <a:off x="5486400" y="52052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79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7">
                <a:moveTo>
                  <a:pt x="10800" y="417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7">
                <a:moveTo>
                  <a:pt x="8224" y="8227"/>
                </a:moveTo>
                <a:lnTo>
                  <a:pt x="12088" y="8227"/>
                </a:lnTo>
                <a:lnTo>
                  <a:pt x="12088" y="15225"/>
                </a:lnTo>
                <a:lnTo>
                  <a:pt x="13376" y="15225"/>
                </a:lnTo>
                <a:lnTo>
                  <a:pt x="13376" y="16148"/>
                </a:lnTo>
                <a:lnTo>
                  <a:pt x="8224" y="16148"/>
                </a:lnTo>
                <a:lnTo>
                  <a:pt x="8224" y="15225"/>
                </a:lnTo>
                <a:lnTo>
                  <a:pt x="9512" y="15225"/>
                </a:lnTo>
                <a:lnTo>
                  <a:pt x="9512" y="9133"/>
                </a:lnTo>
                <a:lnTo>
                  <a:pt x="8224" y="91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1:11:31Z</dcterms:created>
  <dc:creator>NASD</dc:creator>
  <dc:description/>
  <dc:language>en-US</dc:language>
  <cp:lastModifiedBy>Petrov, Leanna</cp:lastModifiedBy>
  <dcterms:modified xsi:type="dcterms:W3CDTF">2013-10-15T13:07:27Z</dcterms:modified>
  <cp:revision>16</cp:revision>
  <dc:subject/>
  <dc:title>Slide 1</dc:title>
</cp:coreProperties>
</file>